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E27E-5C33-4104-8212-EA9DA26A4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4C75-AAAB-470A-8BD1-426869E24E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165-5003-44F5-9D05-3F053D6E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21D-B109-4605-8F6F-E069B668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89A-4408-4192-A682-705D465D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61B-6D3B-423F-A0FF-1B593752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2F27-D126-4EC3-97C2-F999A0C5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85EE-CF47-4861-AE38-465DC8F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031C-C5E6-4276-867A-D286124C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5FA7-1332-4EA3-B2E9-A1FB1059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D3FC-7840-4F55-9EF7-CFE101F3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70F8-D070-4CA5-8315-94D951D7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FAB0-677F-4747-9693-D4C686B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2B7-6E30-4E8E-A1FD-B2651666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5A27-D303-4A05-8988-836A5826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1B4A-7FF4-45A1-ADAF-805A156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56EC-BFA2-4C84-8B91-88D01AC5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E428-02BA-4EE6-A6FA-D6F2FB12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759F-3437-4804-9DA7-C90F996B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7E85-8B1B-45F4-B231-9CA1B2BB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CCF4-052B-47E7-BB17-B01F0D65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2056-BFD9-4AAC-B10B-74485BB0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EBDC-CE6A-4818-90F2-A217CC47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13E9-B409-49B5-A817-37D02A9D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A9A-FA27-49E5-AD05-63CC956B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1321D-961D-4B1C-92D6-63738087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E2F3-54D3-4EFF-9F87-770CB2B5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F508-4407-41D7-862B-CB52A4B3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1C34-BDF1-49C1-AD3F-09CA1BC9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CA6A-B130-4035-AF35-4111EEEA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F1D6-AD53-4FA9-8D8D-237C9F2C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DA86-34F7-4BE2-A577-9A7EE404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523BD-B8B3-40FB-98D7-AAA88E3C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732B-C3F1-43D0-A318-37B55265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D9EFF-9617-4E0B-B30F-D60A50F6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F24-660C-4F09-9B0E-DE8B85AF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07363-4300-4998-AB97-16790403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4C057-0C70-4D07-B231-2267C21E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EA3D-8B5E-44D2-81FA-592CC2F3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B0F31-D818-458F-A59A-426762F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0662-9265-4BCC-BE59-EE2C4FF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B57C-407A-4EF4-B6FB-6ED2DE0E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5C749-83F7-463C-A128-8F08E6F9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A254-3D46-4373-AE4B-429E781B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9DCEF-0370-4DF1-8564-F63E0535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5E412-EC8C-412B-BC23-74A46294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422-BA54-4E0C-9020-5363D989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77BA3-1D04-4A13-9108-6376DAAA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FBEEC-9227-4902-A1E0-A4894FA6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4DE67-A4E4-4940-961E-FAA37188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8C83-85F0-44AE-BB30-89B61078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59DF7-10F4-433A-AF64-F5D5D9BE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113E3-0EB5-4122-BF71-EAD68F1B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9037F-C645-4323-B024-627D5812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DBF6B-04E7-4F81-8598-981C5050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321DA-590B-44E8-A903-7E1A092E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8B6CE-4797-44A7-95A4-72A03245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6C8-5249-4FDA-B5DD-41DF9192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EF937-445F-4999-BB85-B1A21BDF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21F04-BA23-4912-AF08-DCE97356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DBFEB-062D-4F8C-8613-B4F2C307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34169-4AA8-41A9-A3E2-F8B613B9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5ACFE-4F3A-4055-B858-C24ECE6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E28B-AD3E-4BBD-BF06-3475F172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3BCCB-9F01-4B23-8E32-C922A740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A363C-07D2-4AB3-89E3-D10E17D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20B9D-42D8-42C1-891E-25C2262E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7CE8E-0587-40DD-93DF-7B95479A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05E-7D2F-4E19-AD49-9939888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C6604-DBB3-4A3F-B493-34AB08FD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0770F-AF75-4699-AAF7-CF80A4DD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5E646-4F1F-4EDD-B38A-FE766009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F90C4-4135-4CF6-B43D-0BBC196F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9BBF4-595C-4001-A88A-F0FF5C51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B0F82-CCE9-4764-916C-B2C46C54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23E3-1826-4923-89EC-02BBEEBD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1F837-618D-41A1-9EB1-4AF46B2E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CA1CA-31A2-484A-9F61-87CC499C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5CACA-32A4-4F91-A02B-C841651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061-7B61-4A2A-89BE-19EF882A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0707-C145-4680-8A77-DCADE19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D4D55-19A5-4523-A398-422DCA7A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A2543-7650-472A-93C0-B3C7B3C7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41834-684F-4FF9-BE37-0EF28418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3DC10-F7FB-4216-92E8-B610BB3C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8D7-38F2-4424-81A1-1F79A9B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C383-3F4F-4451-B070-683AB1E70A3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DD59-7A23-458A-AA7C-CB203A1E3A5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17F5-ED14-4619-BF6F-B282114FBB2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8143-6DF3-450C-ACA0-16D02BC89E5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D1CE-9B0E-41EA-8DB9-82CEA068B13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BB45-FCCB-4FC6-AA4F-9BB37666E3D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D14F-7CE7-43AE-9B15-C99D10508FB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Information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Lasonya wants to buy a stero that costs $158.  She had saved $79.  Then her mother gave her $20 for babysitting her little brother.  She earned another $35 helping her neighbor clean and mow the yard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Monda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ow much more did Lasonya earn helping her neighbor than babysitting her little brother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Tuesda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at is the total amount of money that Lasonya has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Wednesda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ow much more money does Lasonya need to buy the stereo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Thursday 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Lasonya spends $15 on a CD, how much money will she have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Frida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Lasonya wants to buy the stereo and a $49 shelf for the stereo, what will be the total cos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23:17:19Z</dcterms:created>
  <dc:creator>127partidak</dc:creator>
  <dc:description/>
  <dc:language>en-US</dc:language>
  <cp:lastModifiedBy>127partidak</cp:lastModifiedBy>
  <dcterms:modified xsi:type="dcterms:W3CDTF">2011-12-02T23:22:22Z</dcterms:modified>
  <cp:revision>1</cp:revision>
  <dc:subject/>
  <dc:title>Information</dc:title>
</cp:coreProperties>
</file>